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3FC7-F204-4B60-ABDA-8C91C2FF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6670-7B8F-46A6-8E19-E81F5758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8526-CE14-4A22-B6D2-704E99C96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CC3C-AE94-4038-AC98-E3FAA04F5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EA0F-33E3-4AFC-A5F1-1BFA2E7FD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6081-2B2A-4684-9524-4A2CBD5C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21B7-8742-422A-A60D-0FA79F9E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7666-FF9B-46C3-BA00-E6C14DC0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B201-AE6C-4A91-BE67-06B92AA9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C6AA-390D-40F7-A4E0-1E39A07A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77B0-C026-425C-89E4-33B887FD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9F2E-91FE-41C5-913D-424CF998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D38C-9007-4ACB-B178-2AAFC05C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C54F-571D-48B9-A17C-FD2AA0A4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2EE3-C098-450E-8B25-78FABB30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7B7E-7C58-42A9-A03D-F3C1D0278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9B47-1BEC-4016-8498-4CE552CF9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ED31D-27F4-4D65-A636-4BD6ABE1E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74A82-0750-4F6A-B3F5-1583A3C4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664B7-E97D-4558-AC5D-96D0AC9A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1A822-13BD-4BAE-B426-B70334F5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3D24A-3460-4D86-9AAB-BF7BF334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2326-B097-46B6-BDA5-7B2A5297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7E86F-D3CB-4E5E-9C09-DF884FE3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41AEC-C0C2-4785-BABD-CFF4A7EC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22261-763E-4A8A-9008-D5391828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ED7C0-7631-4509-AE69-3FC48143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B663A-D620-4B1F-85CB-06E742A1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E5022-FEDB-4DD5-AE15-8C86D9D45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E685B-2BAF-45BA-9882-78A551922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09E27-AE1C-4684-808A-F4C54DE46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438C8-04BC-4E3D-ABB8-709348D8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34309-AEFC-4A62-9732-AEA59584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0C5D-D33A-4959-B804-E208B675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0E543-24B1-4BEE-9B6E-F17D37E1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C1271-FF33-4A44-8D0D-3EE19ABB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4EED3-51F9-4E21-866B-816C612B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13620-4722-4A23-A93D-EC025573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C56BB-7B0C-4C10-B299-0585FF5B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94D53-79DD-46E8-B01F-072984AE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D52AD-AF32-4701-B1C3-8A7E25A1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073AC-4707-4D82-8A12-9B4EC750D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A8D2F-C742-470E-80AD-1CDB6A70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3FA7-D354-4915-A647-06080522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191E-0156-42BA-9FCB-EAEBD721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8E40-E165-42DB-BCD9-8D4764AD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215F-49BB-4081-88E9-AB02049F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3512-857E-42D1-BD89-F55AA132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B541-CBEE-4F60-83DE-BA996367E95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3B5B-E34A-4CDC-AD02-C35DB96C7CF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19D6-4534-42C7-82B5-FEFBB01E7A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14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CF5D-A716-41E5-A73D-67BF19BC43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7 ГОД И ПЛАНОВЫЙ ПЕРИОД 2018-2019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01640" y="990720"/>
          <a:ext cx="7777080" cy="54356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2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4,3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5,9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8,6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8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3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7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09,45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7 год – 342,55 млн.руб. (местный бюджет – 134,59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7,96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52,3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7 год - 9,4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10,86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8920" y="843480"/>
            <a:ext cx="760716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2,0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4,3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49200" y="1879560"/>
          <a:ext cx="73184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879560"/>
                    <a:ext cx="7318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59040" y="319320"/>
            <a:ext cx="7638120" cy="7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РАСХОДЫ НА НЕПРОГРАММНЫЕ НАПРАВЛЕНИЯ ДЕЯТЕЛЬНОСТИ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78040" y="1409760"/>
          <a:ext cx="75913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1409760"/>
                    <a:ext cx="7591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6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 (по состоянию на 01.10.2016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4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41440" y="990720"/>
          <a:ext cx="8151840" cy="566244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7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8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14360" y="990720"/>
          <a:ext cx="8567640" cy="5646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8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3480" y="277920"/>
            <a:ext cx="751824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СТРУКТУРА ДОХОДОВ БЮДЖЕТА ДАЛЬНЕРЕЧЕНСКОГО ГОРОДСКОГО ОКРУГА НА 2017 ГОД (495,91 млн.руб.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СТРУКТУРА СОБСТВЕННЫХ (НАЛОГОВЫХ И НЕНАЛОГОВЫХ) ДОХОДОВ В 2017 ГОДУ (2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83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,21 млн.руб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2520" y="1685880"/>
          <a:ext cx="81183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85880"/>
                    <a:ext cx="81183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РАВНЕНИЕ ОБЪЕМОВ МЕЖБЮДЖЕТНЫХ ТРАНСФЕРТОВ 2016 И 2017-2019 ГОДОВ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40160" y="1141560"/>
          <a:ext cx="3470400" cy="51768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1320" y="277560"/>
            <a:ext cx="7520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7 ГОДУ (211,6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6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7 ГОД (509,4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57280" y="1278000"/>
          <a:ext cx="820080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278000"/>
                    <a:ext cx="82008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1-01T04:56:16Z</dcterms:modified>
  <cp:revision>83</cp:revision>
  <dc:subject/>
  <dc:title>Структура собственных доходов на 2016 год бюджета Дальнереченского городского округа</dc:title>
</cp:coreProperties>
</file>